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9.png" ContentType="image/png"/>
  <Override PartName="/ppt/media/image13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DB7-D093-41E2-92F0-58A54CFC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D15-3243-4898-B3CB-A55FC2F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635-86C1-4191-B294-2784FC4C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A9A-B2D3-4EC4-A174-543A1FA9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81C-FA25-4E6C-84D9-B0F07AAB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24C-CA7A-43FF-9563-FE08046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006-A46B-4520-A97C-C6A4C583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F20-4D4A-4E09-A13D-0238351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009-BE7D-4E4D-A03B-CDC92E76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89A-1AF1-44A8-82CA-B469AEF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E99-0553-48E6-B5FF-FD692BB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EC5-C57C-480A-9A24-62EB41E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4200-1F75-431B-87C5-981AB0AD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gcon.com/gamegoo/games/squanky2/squanky2.html" TargetMode="External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echno"/>
              </a:rPr>
              <a:t>What are Synonyms and Antonym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388620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eth Schuma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ECOMP 50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d05090_"/>
          <p:cNvPicPr/>
          <p:nvPr/>
        </p:nvPicPr>
        <p:blipFill>
          <a:blip r:embed="rId1"/>
          <a:stretch/>
        </p:blipFill>
        <p:spPr>
          <a:xfrm>
            <a:off x="838080" y="3657600"/>
            <a:ext cx="25146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echno"/>
              </a:rPr>
              <a:t>Are you ready to play a synonym Ga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chno"/>
              </a:rPr>
              <a:t>Click the picture to play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5812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>
            <a:hlinkClick r:id="rId3" action="ppaction://hlinksldjump"/>
          </p:cNvPr>
          <p:cNvSpPr/>
          <p:nvPr/>
        </p:nvSpPr>
        <p:spPr>
          <a:xfrm>
            <a:off x="7391520" y="5486400"/>
            <a:ext cx="1280880" cy="1143000"/>
          </a:xfrm>
          <a:prstGeom prst="rightArrow">
            <a:avLst>
              <a:gd name="adj1" fmla="val 50000"/>
              <a:gd name="adj2" fmla="val 280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467480" y="58672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4400" y="3049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What is an Ant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124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62120" y="1295280"/>
            <a:ext cx="6095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ntonyms are words that mean the opposite of another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Hot -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Short –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Big - 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1066680"/>
            <a:ext cx="784836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echno"/>
              </a:rPr>
              <a:t>What is the Antonym for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S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66ff99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R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Program Files\Common Files\Microsoft Shared\Clipart\cagcat50\na01062_.wmf"/>
          <p:cNvPicPr/>
          <p:nvPr/>
        </p:nvPicPr>
        <p:blipFill>
          <a:blip r:embed="rId5"/>
          <a:stretch/>
        </p:blipFill>
        <p:spPr>
          <a:xfrm>
            <a:off x="4495680" y="2133720"/>
            <a:ext cx="36576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1026"/>
          <p:cNvSpPr txBox="1"/>
          <p:nvPr/>
        </p:nvSpPr>
        <p:spPr>
          <a:xfrm rot="403200">
            <a:off x="887400" y="634680"/>
            <a:ext cx="7415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66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ud Easy"/>
              </a:rPr>
              <a:t>Congratulations !</a:t>
            </a:r>
            <a:endParaRPr b="1" lang="en-US" sz="8000" spc="1" strike="noStrike">
              <a:ln w="9360">
                <a:solidFill>
                  <a:srgbClr val="66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ud Easy"/>
              <a:ea typeface="Bud Easy"/>
            </a:endParaRPr>
          </a:p>
        </p:txBody>
      </p:sp>
      <p:sp>
        <p:nvSpPr>
          <p:cNvPr id="78" name="AutoShape 1027">
            <a:hlinkClick r:id="rId3" action="ppaction://hlinksldjump"/>
          </p:cNvPr>
          <p:cNvSpPr/>
          <p:nvPr/>
        </p:nvSpPr>
        <p:spPr>
          <a:xfrm>
            <a:off x="6858000" y="4800600"/>
            <a:ext cx="1676520" cy="1295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124080" y="5410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echno"/>
              </a:rPr>
              <a:t>Move on to the nex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1028"/>
          <p:cNvSpPr txBox="1"/>
          <p:nvPr/>
        </p:nvSpPr>
        <p:spPr>
          <a:xfrm>
            <a:off x="304920" y="1600200"/>
            <a:ext cx="8582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Keep Trying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AutoShape 1030">
            <a:hlinkClick r:id="rId3" action="ppaction://hlinksldjump"/>
          </p:cNvPr>
          <p:cNvSpPr/>
          <p:nvPr/>
        </p:nvSpPr>
        <p:spPr>
          <a:xfrm>
            <a:off x="1066680" y="4648320"/>
            <a:ext cx="1890720" cy="1371600"/>
          </a:xfrm>
          <a:prstGeom prst="leftArrow">
            <a:avLst>
              <a:gd name="adj1" fmla="val 50000"/>
              <a:gd name="adj2" fmla="val 344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3581280" y="5181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echno"/>
              </a:rPr>
              <a:t>Click to go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38080" y="685800"/>
            <a:ext cx="7848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What is an antonym for alway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echno"/>
              </a:rPr>
              <a:t>a.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Y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66ff66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N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c.  Some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echno"/>
              </a:rPr>
              <a:t>d. 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Program Files\Common Files\Microsoft Shared\Clipart\cagcat50\dd01352_.wmf"/>
          <p:cNvPicPr/>
          <p:nvPr/>
        </p:nvPicPr>
        <p:blipFill>
          <a:blip r:embed="rId3"/>
          <a:stretch/>
        </p:blipFill>
        <p:spPr>
          <a:xfrm>
            <a:off x="4495680" y="1981080"/>
            <a:ext cx="3276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33520" y="1523880"/>
            <a:ext cx="8305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Lucida Sans Typewriter"/>
              </a:rPr>
              <a:t>EXCELLENT!</a:t>
            </a:r>
            <a:endParaRPr b="1" lang="en-US" sz="8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Lucida Sans Typewriter"/>
              <a:ea typeface="Lucida Sans Typewriter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7162920" y="5257800"/>
            <a:ext cx="1600200" cy="121932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62520" y="5562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echno"/>
              </a:rPr>
              <a:t>On to the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295280" y="1752480"/>
            <a:ext cx="640080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Ziggy Zoe"/>
              </a:rPr>
              <a:t>Try Again</a:t>
            </a:r>
            <a:endParaRPr b="1" lang="en-US" sz="8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Ziggy Zoe"/>
              <a:ea typeface="Ziggy Zoe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71800" y="3886200"/>
            <a:ext cx="1814400" cy="1447920"/>
          </a:xfrm>
          <a:prstGeom prst="leftArrow">
            <a:avLst>
              <a:gd name="adj1" fmla="val 50000"/>
              <a:gd name="adj2" fmla="val 313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952880" y="4343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chno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9144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Techno"/>
              </a:rPr>
              <a:t>Let’s play an Antonym G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ln_gamegoo_on"/>
          <p:cNvPicPr/>
          <p:nvPr/>
        </p:nvPicPr>
        <p:blipFill>
          <a:blip r:embed="rId1"/>
          <a:stretch/>
        </p:blipFill>
        <p:spPr>
          <a:xfrm>
            <a:off x="2743200" y="2895480"/>
            <a:ext cx="3432240" cy="3353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7543800" y="5562720"/>
            <a:ext cx="1295280" cy="1019160"/>
          </a:xfrm>
          <a:prstGeom prst="rightArrow">
            <a:avLst>
              <a:gd name="adj1" fmla="val 50000"/>
              <a:gd name="adj2" fmla="val 31773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62012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352680" y="3886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ed00145_"/>
          <p:cNvPicPr/>
          <p:nvPr/>
        </p:nvPicPr>
        <p:blipFill>
          <a:blip r:embed="rId1"/>
          <a:stretch/>
        </p:blipFill>
        <p:spPr>
          <a:xfrm>
            <a:off x="5257800" y="2971800"/>
            <a:ext cx="3429000" cy="2908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/>
          <p:cNvSpPr/>
          <p:nvPr/>
        </p:nvSpPr>
        <p:spPr>
          <a:xfrm>
            <a:off x="838080" y="3352680"/>
            <a:ext cx="2514600" cy="114300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lick to get to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1447920" y="91440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nkerToy"/>
              </a:rPr>
              <a:t>Synonym Story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nkerToy"/>
              <a:ea typeface="TinkerToy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7848720" y="5943600"/>
            <a:ext cx="976320" cy="685800"/>
          </a:xfrm>
          <a:prstGeom prst="rightArrow">
            <a:avLst>
              <a:gd name="adj1" fmla="val 50000"/>
              <a:gd name="adj2" fmla="val 355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095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2860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ff"/>
                </a:solidFill>
                <a:uFillTx/>
                <a:latin typeface="Techno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152388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ynonym &amp; Antonym Gam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Story Link to Microsoft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Review of Synonyms &amp; Antony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Credits &amp;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bd05094_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ff"/>
                </a:solidFill>
                <a:uFillTx/>
                <a:latin typeface="Techno"/>
              </a:rPr>
              <a:t>Credits</a:t>
            </a:r>
            <a:r>
              <a:rPr b="1" lang="en-US" sz="4800" spc="-1" strike="noStrike" u="sng">
                <a:solidFill>
                  <a:srgbClr val="ff66ff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Power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chno"/>
              </a:rPr>
              <a:t>Microsoft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Anonymous photograph (image gamego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Retrieved January 11, 2004 www.cogcon.com/gamego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Techno"/>
              </a:rPr>
              <a:t>What is a Synony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echno"/>
              </a:rPr>
              <a:t>A Synonym is a word that has     almost the same or similar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Cold - Chi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Vacant - emp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echno"/>
              </a:rPr>
              <a:t>Big - H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838080"/>
            <a:ext cx="76197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What is a Synonym for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echno"/>
              </a:rPr>
              <a:t> intelligent</a:t>
            </a:r>
            <a:r>
              <a:rPr b="1" lang="en-US" sz="3600" spc="-1" strike="noStrike">
                <a:solidFill>
                  <a:srgbClr val="ffff00"/>
                </a:solidFill>
                <a:latin typeface="Tech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D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66ff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Si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Common Files\Microsoft Shared\Clipart\cagcat50\bd00028_.wmf"/>
          <p:cNvPicPr/>
          <p:nvPr/>
        </p:nvPicPr>
        <p:blipFill>
          <a:blip r:embed="rId5"/>
          <a:stretch/>
        </p:blipFill>
        <p:spPr>
          <a:xfrm>
            <a:off x="4419720" y="1905120"/>
            <a:ext cx="3665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447920" y="1295280"/>
            <a:ext cx="5448240" cy="25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echno"/>
              </a:rPr>
              <a:t>Fantastic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9880" y="5257800"/>
            <a:ext cx="3048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Techno"/>
              </a:rPr>
              <a:t>Go to the next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>
            <a:hlinkClick r:id="rId1" action="ppaction://hlinksldjump"/>
          </p:cNvPr>
          <p:cNvSpPr/>
          <p:nvPr/>
        </p:nvSpPr>
        <p:spPr>
          <a:xfrm>
            <a:off x="6705720" y="5334120"/>
            <a:ext cx="1904760" cy="1095120"/>
          </a:xfrm>
          <a:prstGeom prst="rightArrow">
            <a:avLst>
              <a:gd name="adj1" fmla="val 50000"/>
              <a:gd name="adj2" fmla="val 43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219320" y="685800"/>
            <a:ext cx="6629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echno"/>
              </a:rPr>
              <a:t>OOPS!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echno"/>
              <a:ea typeface="Tech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echno"/>
              </a:rPr>
              <a:t>Try Again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echno"/>
              <a:ea typeface="Techno"/>
            </a:endParaRPr>
          </a:p>
        </p:txBody>
      </p:sp>
      <p:sp>
        <p:nvSpPr>
          <p:cNvPr id="55" name="AutoShape 3">
            <a:hlinkClick r:id="rId1" action="ppaction://hlinksldjump"/>
          </p:cNvPr>
          <p:cNvSpPr/>
          <p:nvPr/>
        </p:nvSpPr>
        <p:spPr>
          <a:xfrm>
            <a:off x="609480" y="5105520"/>
            <a:ext cx="2210040" cy="1247760"/>
          </a:xfrm>
          <a:prstGeom prst="leftArrow">
            <a:avLst>
              <a:gd name="adj1" fmla="val 50000"/>
              <a:gd name="adj2" fmla="val 442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12408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echno"/>
              </a:rPr>
              <a:t>Go Back &amp;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69608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echno"/>
              </a:rPr>
              <a:t>What is the synonym for sil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1" action="ppaction://hlinksldjump"/>
              </a:rPr>
              <a:t>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2" action="ppaction://hlinksldjump"/>
              </a:rPr>
              <a:t>Expens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3" action="ppaction://hlinksldjump"/>
              </a:rPr>
              <a:t>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Techno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echno"/>
                <a:hlinkClick r:id="rId4" action="ppaction://hlinksldjump"/>
              </a:rPr>
              <a:t>Qui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4876920" y="2286000"/>
            <a:ext cx="2700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3"/>
          <p:cNvSpPr txBox="1"/>
          <p:nvPr/>
        </p:nvSpPr>
        <p:spPr>
          <a:xfrm>
            <a:off x="762120" y="1295280"/>
            <a:ext cx="7467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y to Go 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AutoShape 4"/>
          <p:cNvSpPr/>
          <p:nvPr/>
        </p:nvSpPr>
        <p:spPr>
          <a:xfrm rot="20589600">
            <a:off x="533520" y="457200"/>
            <a:ext cx="8310600" cy="4433760"/>
          </a:xfrm>
          <a:custGeom>
            <a:avLst/>
            <a:gdLst>
              <a:gd name="textAreaLeft" fmla="*/ 0 w 8310600"/>
              <a:gd name="textAreaRight" fmla="*/ 8310960 w 8310600"/>
              <a:gd name="textAreaTop" fmla="*/ 574560 h 4433760"/>
              <a:gd name="textAreaBottom" fmla="*/ 3859200 h 4433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1219320" y="5410080"/>
            <a:ext cx="380880" cy="1447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>
            <a:hlinkClick r:id="rId1" action="ppaction://hlinksldjump"/>
          </p:cNvPr>
          <p:cNvSpPr/>
          <p:nvPr/>
        </p:nvSpPr>
        <p:spPr>
          <a:xfrm>
            <a:off x="7315200" y="5943600"/>
            <a:ext cx="1357200" cy="714240"/>
          </a:xfrm>
          <a:custGeom>
            <a:avLst/>
            <a:gdLst>
              <a:gd name="textAreaLeft" fmla="*/ 212040 w 1357200"/>
              <a:gd name="textAreaRight" fmla="*/ 1187640 w 135720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952880" y="54100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echno"/>
              </a:rPr>
              <a:t>Go on to the nex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026"/>
          <p:cNvSpPr txBox="1"/>
          <p:nvPr/>
        </p:nvSpPr>
        <p:spPr>
          <a:xfrm>
            <a:off x="457200" y="11430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etter Luck Next Tim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AutoShape 1027">
            <a:hlinkClick r:id="rId1" action="ppaction://hlinksldjump"/>
          </p:cNvPr>
          <p:cNvSpPr/>
          <p:nvPr/>
        </p:nvSpPr>
        <p:spPr>
          <a:xfrm>
            <a:off x="762120" y="4572000"/>
            <a:ext cx="2057400" cy="175248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270360 h 1752480"/>
              <a:gd name="textAreaBottom" fmla="*/ 13071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2467798"/>
                <a:lnTo>
                  <a:pt x="7200" y="21219"/>
                </a:lnTo>
                <a:lnTo>
                  <a:pt x="0" y="16391"/>
                </a:lnTo>
                <a:lnTo>
                  <a:pt x="7200" y="10801"/>
                </a:lnTo>
                <a:lnTo>
                  <a:pt x="7200" y="12957"/>
                </a:lnTo>
                <a:arcTo wR="21600" hR="6669" stAng="2467798" swAng="-1925801"/>
                <a:lnTo>
                  <a:pt x="19204" y="9722"/>
                </a:lnTo>
                <a:arcTo wR="21600" hR="6669" stAng="-541996" swAng="-4858004"/>
                <a:close/>
              </a:path>
              <a:path fill="darkenLess" w="21600" h="21600">
                <a:moveTo>
                  <a:pt x="0" y="0"/>
                </a:moveTo>
                <a:arcTo wR="21600" hR="6669" stAng="-5400000" swAng="5400000"/>
                <a:lnTo>
                  <a:pt x="21600" y="12775"/>
                </a:lnTo>
                <a:arcTo wR="21600" hR="6669" stAng="0" swAng="-541996"/>
                <a:lnTo>
                  <a:pt x="19204" y="9722"/>
                </a:lnTo>
                <a:arcTo wR="21600" hR="6669" stAng="-541996" swAng="-4858004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2971800" y="4952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echno"/>
              </a:rPr>
              <a:t>Go back and give it another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7:10:29Z</dcterms:created>
  <dc:creator>Lyman Teacher</dc:creator>
  <dc:description/>
  <dc:language>en-US</dc:language>
  <cp:lastModifiedBy>Elyse</cp:lastModifiedBy>
  <dcterms:modified xsi:type="dcterms:W3CDTF">2010-04-16T00:09:17Z</dcterms:modified>
  <cp:revision>31</cp:revision>
  <dc:subject/>
  <dc:title>What are</dc:title>
</cp:coreProperties>
</file>